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EFC-443F-487A-A5DE-9B0C1D48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EB8-C5D2-44BB-8911-D6EDAA45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A9C-7361-4E65-935D-7628C055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5BA-8644-4E35-8A89-B1FC8846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A74-4F99-479D-B3FD-5C3E328C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484-C135-4B58-9934-4F0698C2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C5F-6156-498E-A33F-4182D7D3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495-B4C7-4DBE-B59C-0FF57746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16C-FAB4-4EB2-8A07-AF161778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CB2-37D0-4686-B73F-7FCC64DF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64A-1A75-47DD-A122-EFD8C6B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540-A739-462A-9085-7B5738AB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2CA67C-8616-42E6-B02A-B4128FB88BB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11.1.jpg"/>
          <p:cNvPicPr/>
          <p:nvPr/>
        </p:nvPicPr>
        <p:blipFill>
          <a:blip r:embed="rId1"/>
          <a:stretch/>
        </p:blipFill>
        <p:spPr>
          <a:xfrm>
            <a:off x="2455920" y="0"/>
            <a:ext cx="4231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Figure 11.2.jpg"/>
          <p:cNvPicPr/>
          <p:nvPr/>
        </p:nvPicPr>
        <p:blipFill>
          <a:blip r:embed="rId1"/>
          <a:stretch/>
        </p:blipFill>
        <p:spPr>
          <a:xfrm>
            <a:off x="1911240" y="0"/>
            <a:ext cx="5320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Table 11.1.jpg"/>
          <p:cNvPicPr/>
          <p:nvPr/>
        </p:nvPicPr>
        <p:blipFill>
          <a:blip r:embed="rId1"/>
          <a:stretch/>
        </p:blipFill>
        <p:spPr>
          <a:xfrm>
            <a:off x="884160" y="0"/>
            <a:ext cx="7375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3e_Table 11.2.jpg"/>
          <p:cNvPicPr/>
          <p:nvPr/>
        </p:nvPicPr>
        <p:blipFill>
          <a:blip r:embed="rId1"/>
          <a:stretch/>
        </p:blipFill>
        <p:spPr>
          <a:xfrm>
            <a:off x="1911240" y="0"/>
            <a:ext cx="5320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2:30Z</dcterms:created>
  <dc:creator>Administrator</dc:creator>
  <dc:description/>
  <dc:language>en-US</dc:language>
  <cp:lastModifiedBy>Administrator</cp:lastModifiedBy>
  <dcterms:modified xsi:type="dcterms:W3CDTF">2012-04-04T09:32:4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